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CB2-AB02-436D-891A-34DE6380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C54-84A9-4EA1-BCBD-2710B81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058-B949-4C9E-ABFC-B017F7A8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7A2-7EF5-40CC-A1EE-B74C5A9D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E20-94B0-485B-ACCD-96D3ACD0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DBE-9D99-4373-BB28-86C9A7D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754-1490-455C-80E4-98584EF2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D74-FD5F-4A2B-9CCE-B25C21F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2F7-8049-41C1-A4A4-51CFCEE1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C16-59EF-4501-8408-B23E7C65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9C0-2AD5-4F7C-A9AD-C5883AD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E45-F694-465A-ACA7-335F947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37E-18E2-4C3F-B28D-4CBC3F1E1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oplite4thcentu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Brandon Duckwort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133720" y="11430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ISLPT144\Local Settings\Temporary Internet Files\Content.IE5\T71HZ1RE\MC900367582[1].wmf"/>
          <p:cNvPicPr/>
          <p:nvPr/>
        </p:nvPicPr>
        <p:blipFill>
          <a:blip r:embed="rId1"/>
          <a:stretch/>
        </p:blipFill>
        <p:spPr>
          <a:xfrm>
            <a:off x="1676520" y="2513160"/>
            <a:ext cx="4343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143000" y="1905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C:\Documents and Settings\ISLPT144\Local Settings\Temporary Internet Files\Content.IE5\H44NSNGF\MP900432940[1].jpg"/>
          <p:cNvPicPr/>
          <p:nvPr/>
        </p:nvPicPr>
        <p:blipFill>
          <a:blip r:embed="rId1"/>
          <a:stretch/>
        </p:blipFill>
        <p:spPr>
          <a:xfrm>
            <a:off x="1523880" y="2543040"/>
            <a:ext cx="6858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066680" y="1523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images (2).jpg"/>
          <p:cNvPicPr/>
          <p:nvPr/>
        </p:nvPicPr>
        <p:blipFill>
          <a:blip r:embed="rId1"/>
          <a:stretch/>
        </p:blipFill>
        <p:spPr>
          <a:xfrm>
            <a:off x="990720" y="2076480"/>
            <a:ext cx="6445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images (3).jpg"/>
          <p:cNvPicPr/>
          <p:nvPr/>
        </p:nvPicPr>
        <p:blipFill>
          <a:blip r:embed="rId1"/>
          <a:stretch/>
        </p:blipFill>
        <p:spPr>
          <a:xfrm>
            <a:off x="2743200" y="2457360"/>
            <a:ext cx="33051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3716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ISLPT144\Local Settings\Temporary Internet Files\Content.IE5\MX0IGFH4\MP900442538[1].jpg"/>
          <p:cNvPicPr/>
          <p:nvPr/>
        </p:nvPicPr>
        <p:blipFill>
          <a:blip r:embed="rId1"/>
          <a:stretch/>
        </p:blipFill>
        <p:spPr>
          <a:xfrm>
            <a:off x="1371600" y="2519280"/>
            <a:ext cx="652608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C:\Documents and Settings\ISLPT144\Local Settings\Temporary Internet Files\Content.IE5\T71HZ1RE\MP900405128[1]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ownload.jpg"/>
          <p:cNvPicPr/>
          <p:nvPr/>
        </p:nvPicPr>
        <p:blipFill>
          <a:blip r:embed="rId1"/>
          <a:stretch/>
        </p:blipFill>
        <p:spPr>
          <a:xfrm>
            <a:off x="609480" y="1600200"/>
            <a:ext cx="76201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Documents and Settings\ISLPT144\Local Settings\Temporary Internet Files\Content.IE5\OZWQY7OR\MP900427688[1].jpg"/>
          <p:cNvPicPr/>
          <p:nvPr/>
        </p:nvPicPr>
        <p:blipFill>
          <a:blip r:embed="rId1"/>
          <a:stretch/>
        </p:blipFill>
        <p:spPr>
          <a:xfrm>
            <a:off x="3581280" y="2819520"/>
            <a:ext cx="5562720" cy="4038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295280" y="1295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371600" y="1371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ISLPT144\Local Settings\Temporary Internet Files\Content.IE5\H44NSNGF\MP900448536[1].jpg"/>
          <p:cNvPicPr/>
          <p:nvPr/>
        </p:nvPicPr>
        <p:blipFill>
          <a:blip r:embed="rId1"/>
          <a:stretch/>
        </p:blipFill>
        <p:spPr>
          <a:xfrm>
            <a:off x="1523880" y="2590920"/>
            <a:ext cx="6019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676520" y="83808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who live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ISLPT144\Local Settings\Temporary Internet Files\Content.IE5\H44NSNGF\MP900443910[1].jpg"/>
          <p:cNvPicPr/>
          <p:nvPr/>
        </p:nvPicPr>
        <p:blipFill>
          <a:blip r:embed="rId1"/>
          <a:stretch/>
        </p:blipFill>
        <p:spPr>
          <a:xfrm>
            <a:off x="990720" y="2243160"/>
            <a:ext cx="6933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914400" y="2057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rm of government where  people vote to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ISLPT144\Local Settings\Temporary Internet Files\Content.IE5\OZWQY7OR\MC900149508[1].wmf"/>
          <p:cNvPicPr/>
          <p:nvPr/>
        </p:nvPicPr>
        <p:blipFill>
          <a:blip r:embed="rId1"/>
          <a:stretch/>
        </p:blipFill>
        <p:spPr>
          <a:xfrm>
            <a:off x="1295280" y="2762280"/>
            <a:ext cx="62485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0" y="144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ear evidence and  make  decisions in a court of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ISLPT144\Local Settings\Temporary Internet Files\Content.IE5\T71HZ1RE\MC900287179[1].wmf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mages (1).jpg"/>
          <p:cNvPicPr/>
          <p:nvPr/>
        </p:nvPicPr>
        <p:blipFill>
          <a:blip r:embed="rId1"/>
          <a:stretch/>
        </p:blipFill>
        <p:spPr>
          <a:xfrm>
            <a:off x="2057400" y="2438280"/>
            <a:ext cx="4832280" cy="3733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048120" y="9144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eek cit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33:30Z</dcterms:modified>
  <cp:revision>96</cp:revision>
  <dc:subject/>
  <dc:title>Ancient Greece</dc:title>
</cp:coreProperties>
</file>